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wmf" ContentType="image/x-wmf"/>
  <Override PartName="/ppt/media/image4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94F3-3CCA-4D50-AA70-AF1ACC8C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95E8-C60F-4C78-8B42-53185083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0952-82B1-4789-BDC1-B84EB543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621C-7F67-4BBD-8A09-32AE9957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51C9C-A8F7-46CF-9C75-9E5C20E5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0A04F-1A46-46B0-B561-8AB2E64F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DA1F4-047C-43D5-990F-8E14CA02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9C437-E25D-4687-8FFD-AF86096C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A00D6-A8EB-42B6-94BF-E976934A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61F0F-F785-4272-A0B5-85383B76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BA4D5-2B50-4BD0-8B6E-7FB9C390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501-682E-4CFF-BCC6-9E4FDB72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46C5D-E96F-4B4C-8FA8-A10B06CE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79667-6637-462C-871F-718CBA7B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909EF-6A1A-4C04-813B-C2667973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0BA6D-E5F6-4EC6-83DB-DB3E35E3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23DA7-8545-45B0-B129-A849079A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70C-3659-412E-98E7-CE4C1C89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568-0461-488A-8F5C-2910A74E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DE25-217F-4CCF-8F9C-9FB0B44D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1B6-781E-45F4-A03F-1D1D0C0C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CE5-1747-4FCC-B8FD-0D8608BA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724-9A5E-4FB6-804D-DC55FE24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984-1047-45F4-8AA3-4B46C30E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C475-A0EB-4573-9A98-1D28A37AE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D0B5-4A05-4AD1-8ABA-EBC5164EDC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10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 rot="20578800">
            <a:off x="2339640" y="475920"/>
            <a:ext cx="53276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740000"/>
                </a:gradFill>
                <a:latin typeface="Impact"/>
              </a:rPr>
              <a:t>KOMPAS - 3D 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4740000"/>
              </a:gradFill>
              <a:latin typeface="Impact"/>
              <a:ea typeface="Impact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47640" y="5387760"/>
            <a:ext cx="62658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600"/>
                </a:solidFill>
                <a:latin typeface="Times New Roman"/>
              </a:rPr>
              <a:t>Выполнил ученик 9 «А» класса</a:t>
            </a:r>
            <a:br>
              <a:rPr sz="2400"/>
            </a:br>
            <a:r>
              <a:rPr b="1" lang="ru-RU" sz="2400" spc="-1" strike="noStrike">
                <a:solidFill>
                  <a:srgbClr val="00c600"/>
                </a:solidFill>
                <a:latin typeface="Times New Roman"/>
              </a:rPr>
              <a:t>МОУ «СОШ№10»</a:t>
            </a:r>
            <a:br>
              <a:rPr sz="2400"/>
            </a:br>
            <a:r>
              <a:rPr b="1" lang="ru-RU" sz="2400" spc="-1" strike="noStrike">
                <a:solidFill>
                  <a:srgbClr val="00c600"/>
                </a:solidFill>
                <a:latin typeface="Times New Roman"/>
              </a:rPr>
              <a:t>        Лубков Ром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11" descr="1221391930_pic_id66667"/>
          <p:cNvPicPr/>
          <p:nvPr/>
        </p:nvPicPr>
        <p:blipFill>
          <a:blip r:embed="rId2"/>
          <a:stretch/>
        </p:blipFill>
        <p:spPr>
          <a:xfrm>
            <a:off x="324000" y="2565360"/>
            <a:ext cx="5329080" cy="2906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p_393вв"/>
          <p:cNvPicPr/>
          <p:nvPr/>
        </p:nvPicPr>
        <p:blipFill>
          <a:blip r:embed="rId3"/>
          <a:stretch/>
        </p:blipFill>
        <p:spPr>
          <a:xfrm>
            <a:off x="5867280" y="2276640"/>
            <a:ext cx="3067200" cy="324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600"/>
                </a:solidFill>
                <a:latin typeface="Times New Roman"/>
              </a:rPr>
              <a:t>Например</a:t>
            </a:r>
            <a:r>
              <a:rPr b="1" lang="en-US" sz="2800" spc="-1" strike="noStrike">
                <a:solidFill>
                  <a:srgbClr val="00c600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00c600"/>
                </a:solidFill>
                <a:latin typeface="Times New Roman"/>
              </a:rPr>
              <a:t> на этот чертёж мне понадобилось </a:t>
            </a:r>
            <a:br>
              <a:rPr sz="2800"/>
            </a:br>
            <a:r>
              <a:rPr b="1" lang="ru-RU" sz="2800" spc="-1" strike="noStrike">
                <a:solidFill>
                  <a:srgbClr val="00c600"/>
                </a:solidFill>
                <a:latin typeface="Times New Roman"/>
              </a:rPr>
              <a:t>всего 20 минут: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250920" y="1535040"/>
          <a:ext cx="8569080" cy="492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535040"/>
                    <a:ext cx="856908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c600"/>
                </a:solidFill>
                <a:latin typeface="Times New Roman"/>
              </a:rPr>
              <a:t>А за это же врем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imes New Roman"/>
              </a:rPr>
              <a:t>я всего лишь смог начертить простейшу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imes New Roman"/>
              </a:rPr>
              <a:t>блок-схему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5757840" y="189000"/>
          <a:ext cx="1947960" cy="666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57840" y="189000"/>
                    <a:ext cx="194796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600"/>
                </a:solidFill>
                <a:latin typeface="Tahoma"/>
              </a:rPr>
              <a:t>Так же можно начертить план-эвакуации при пожаре(2 этаж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0" y="1257480"/>
          <a:ext cx="9144000" cy="560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57480"/>
                    <a:ext cx="914400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79280" y="765000"/>
            <a:ext cx="878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600"/>
                </a:solidFill>
                <a:latin typeface="Times New Roman"/>
              </a:rPr>
              <a:t>Вывод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600"/>
                </a:solidFill>
                <a:latin typeface="Times New Roman"/>
              </a:rPr>
              <a:t>система трехмерного твердотельного моделирования предназначена для создания моделей отдельных деталей и сборочных единиц, содержащих как оригинальные,</a:t>
            </a:r>
            <a:r>
              <a:rPr b="1" lang="en-US" sz="3600" spc="-1" strike="noStrike">
                <a:solidFill>
                  <a:srgbClr val="00c6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c600"/>
                </a:solidFill>
                <a:latin typeface="Times New Roman"/>
              </a:rPr>
              <a:t>так и стандартизованные конструктивные элемент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600"/>
                </a:solidFill>
                <a:latin typeface="Times New Roman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600"/>
                </a:solidFill>
                <a:latin typeface="Times New Roman"/>
              </a:rPr>
              <a:t>«Большая энциклопедия Кирилла и Мефод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600"/>
                </a:solidFill>
                <a:latin typeface="Times New Roman"/>
              </a:rPr>
              <a:t>Свободная энциклопедия Википед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6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600"/>
                </a:solidFill>
                <a:latin typeface="Times New Roman"/>
              </a:rPr>
              <a:t>Большая Советская энциклопед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DSC00302"/>
          <p:cNvPicPr/>
          <p:nvPr/>
        </p:nvPicPr>
        <p:blipFill>
          <a:blip r:embed="rId2"/>
          <a:stretch/>
        </p:blipFill>
        <p:spPr>
          <a:xfrm>
            <a:off x="2571840" y="2143080"/>
            <a:ext cx="4248000" cy="3186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1366560" y="476280"/>
            <a:ext cx="628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600"/>
                </a:solidFill>
                <a:latin typeface="Tahoma"/>
              </a:rPr>
              <a:t>Спасибо за  внимание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600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imes New Roman"/>
                <a:hlinkClick r:id="rId2" action="ppaction://hlinksldjump"/>
              </a:rPr>
              <a:t>Задачи програм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imes New Roman"/>
                <a:hlinkClick r:id="rId3" action="ppaction://hlinksldjump"/>
              </a:rPr>
              <a:t>Основные компонен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imes New Roman"/>
                <a:hlinkClick r:id="rId4" action="ppaction://hlinksldjump"/>
              </a:rPr>
              <a:t>Детали-шаблоны</a:t>
            </a:r>
            <a:r>
              <a:rPr b="1" lang="ru-RU" sz="3200" spc="-1" strike="noStrike">
                <a:solidFill>
                  <a:srgbClr val="00c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imes New Roman"/>
                <a:hlinkClick r:id="rId5" action="ppaction://hlinksldjump"/>
              </a:rPr>
              <a:t>Достоинство «Компас 3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imes New Roman"/>
                <a:hlinkClick r:id="rId6" action="ppaction://hlinksldjump"/>
              </a:rPr>
              <a:t>D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imes New Roman"/>
                <a:hlinkClick r:id="rId7" action="ppaction://hlinksldjump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imes New Roman"/>
                <a:hlinkClick r:id="rId8" action="ppaction://hlinksldjump"/>
              </a:rPr>
              <a:t>Мои чертеж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imes New Roman"/>
                <a:hlinkClick r:id="rId9" action="ppaction://hlinksldjump"/>
              </a:rPr>
              <a:t>Выв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imes New Roman"/>
                <a:hlinkClick r:id="rId10" action="ppaction://hlinksldjump"/>
              </a:rPr>
              <a:t>Источ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imes New Roman"/>
                <a:hlinkClick r:id="rId2" action="ppaction://hlinksldjump"/>
              </a:rPr>
              <a:t>Основная задача, решаемая системой КОМПАС-3D – моделирование изделий с целью существенного сокращения периода проектирования и скорейшего их запуска в производство.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001_2"/>
          <p:cNvPicPr/>
          <p:nvPr/>
        </p:nvPicPr>
        <p:blipFill>
          <a:blip r:embed="rId4"/>
          <a:stretch/>
        </p:blipFill>
        <p:spPr>
          <a:xfrm>
            <a:off x="611280" y="3213000"/>
            <a:ext cx="2990880" cy="349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1192122134_kompasprzk0"/>
          <p:cNvPicPr/>
          <p:nvPr/>
        </p:nvPicPr>
        <p:blipFill>
          <a:blip r:embed="rId5"/>
          <a:stretch/>
        </p:blipFill>
        <p:spPr>
          <a:xfrm>
            <a:off x="3995640" y="3213000"/>
            <a:ext cx="4897440" cy="3535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imes New Roman"/>
                <a:hlinkClick r:id="rId2" action="ppaction://hlinksldjump"/>
              </a:rPr>
              <a:t>Основные компоненты КОМПАС-3D - система трехмерного твердотельного моделирования, чертежно-графический редактор и модуль проектирования спецификаций.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3" action="ppaction://hlinksldjump"/>
              </a:rPr>
              <a:t>_x000b_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4" action="ppaction://hlinksldjump"/>
              </a:rPr>
              <a:t>_x000b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1212046675_53193"/>
          <p:cNvPicPr/>
          <p:nvPr/>
        </p:nvPicPr>
        <p:blipFill>
          <a:blip r:embed="rId5"/>
          <a:stretch/>
        </p:blipFill>
        <p:spPr>
          <a:xfrm>
            <a:off x="1476360" y="221292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2" action="ppaction://hlinksldjump"/>
              </a:rPr>
              <a:t>В этой программе находится очень много деталей-шаблон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022708_traceparts"/>
          <p:cNvPicPr/>
          <p:nvPr/>
        </p:nvPicPr>
        <p:blipFill>
          <a:blip r:embed="rId3"/>
          <a:stretch/>
        </p:blipFill>
        <p:spPr>
          <a:xfrm>
            <a:off x="179280" y="1844640"/>
            <a:ext cx="4211640" cy="3352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082708_kompas3d10_2"/>
          <p:cNvPicPr/>
          <p:nvPr/>
        </p:nvPicPr>
        <p:blipFill>
          <a:blip r:embed="rId4"/>
          <a:stretch/>
        </p:blipFill>
        <p:spPr>
          <a:xfrm>
            <a:off x="4572000" y="1844640"/>
            <a:ext cx="4284720" cy="33606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468360" y="573408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5" action="ppaction://hlinksldjump"/>
              </a:rPr>
              <a:t>С помощью которых можно за короткое время собрать, как локомотив,  так и множество дета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162800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396360" cy="686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152100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-81000"/>
            <a:ext cx="9144000" cy="693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600"/>
                </a:solidFill>
                <a:latin typeface="Times New Roman"/>
              </a:rPr>
              <a:t>	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2" action="ppaction://hlinksldjump"/>
              </a:rPr>
              <a:t>Достоинство программы в том, что можно быстро начертить чертёж или деталь, тогда как в другой любой программе (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3" action="ppaction://hlinksldjump"/>
              </a:rPr>
              <a:t>Paint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4" action="ppaction://hlinksldjump"/>
              </a:rPr>
              <a:t> или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5" action="ppaction://hlinksldjump"/>
              </a:rPr>
              <a:t>Microsoft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6" action="ppaction://hlinksldjump"/>
              </a:rPr>
              <a:t>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7" action="ppaction://hlinksldjump"/>
              </a:rPr>
              <a:t>Office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imes New Roman"/>
                <a:hlinkClick r:id="rId8" action="ppaction://hlinksldjump"/>
              </a:rPr>
              <a:t>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  <a:hlinkClick r:id="rId9" action="ppaction://hlinksldjump"/>
              </a:rPr>
              <a:t>Visio) </a:t>
            </a:r>
            <a:r>
              <a:rPr b="1" lang="ru-RU" sz="2800" spc="-1" strike="noStrike">
                <a:solidFill>
                  <a:srgbClr val="00c600"/>
                </a:solidFill>
                <a:latin typeface="Times New Roman"/>
              </a:rPr>
              <a:t>на это бы понадобилось намного больше време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kompas3d2"/>
          <p:cNvPicPr/>
          <p:nvPr/>
        </p:nvPicPr>
        <p:blipFill>
          <a:blip r:embed="rId10"/>
          <a:stretch/>
        </p:blipFill>
        <p:spPr>
          <a:xfrm>
            <a:off x="4716360" y="256536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red"/>
          <p:cNvPicPr/>
          <p:nvPr/>
        </p:nvPicPr>
        <p:blipFill>
          <a:blip r:embed="rId11"/>
          <a:stretch/>
        </p:blipFill>
        <p:spPr>
          <a:xfrm>
            <a:off x="108000" y="2565360"/>
            <a:ext cx="4500360" cy="317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94562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494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5:24:06Z</dcterms:created>
  <dc:creator>user</dc:creator>
  <dc:description/>
  <dc:language>en-US</dc:language>
  <cp:lastModifiedBy>Vlad</cp:lastModifiedBy>
  <dcterms:modified xsi:type="dcterms:W3CDTF">2010-06-16T20:37:04Z</dcterms:modified>
  <cp:revision>31</cp:revision>
  <dc:subject/>
  <dc:title>Слайд 1</dc:title>
</cp:coreProperties>
</file>